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BED0-8A6E-40CA-B641-1A5BB8A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1440-22F5-4A51-8939-74129DD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BFA3-1580-4695-93A6-54D2EE12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F158-EBBA-4122-B974-BC7B338E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0A3F-F411-4AAB-9F99-B54D8AF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04DC-72FD-4B5C-B2BC-55EC5BCB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4D37-1649-4307-BEF9-B92CCB9F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FB80-09E0-4982-B571-A8323E67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403D-CECC-437E-93E8-035CB748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16A-B528-4BEE-B1E7-1754468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E59-8746-47FE-90EC-05CA922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AFFC-131A-4664-B112-306A2646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A0DD-9EA4-4264-8A67-D40527D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955-F8F4-4E32-960B-9E9B085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66B4-C114-4C96-B702-A1BBDA19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CE9-1024-465B-9A22-4E75B2EA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195B-0C6C-481D-A5F7-C5A17446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745F-65D7-4BF7-B489-B3B271DA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C8CF-EC38-443D-890E-9B852EB9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8F8E-979C-4673-A5CF-6E66CA3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A179-262B-465E-BC97-237C3539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2BA8-02B0-4CAF-8B10-A1F090A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5798-8E9E-472A-8BC4-C838B0EC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E0C3-C813-47CF-821D-5E8BB5E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6EA-4B2B-4109-949C-123F443425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C2D-D080-4671-AAE1-2C84984E3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84720" y="5516280"/>
            <a:ext cx="2602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Trabalho realizado po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António Tavares n 2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Samuel Duarte n 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543480" cy="227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Capital 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5826240" cy="437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opul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20500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Population (2009 est.): 491,775 (growth rate: 1.1%); birth rate: 11.7/1000; infant mortality rate: 4.5/1000; life expectancy: 79.3; density per sq km: 18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angu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anguage is German,French and Luxembo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How to get the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c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b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pl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t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2121120" cy="2120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89160" cy="203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hotos of the Cou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75480" y="0"/>
            <a:ext cx="3368520" cy="35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73580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Interesting places to vis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465280" cy="328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01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Mullerth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1341360"/>
            <a:ext cx="4648320" cy="32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5157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Arden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23:37Z</dcterms:created>
  <dc:creator>Utilizador</dc:creator>
  <dc:description/>
  <dc:language>en-US</dc:language>
  <cp:lastModifiedBy>Utilizador</cp:lastModifiedBy>
  <dcterms:modified xsi:type="dcterms:W3CDTF">2009-11-11T12:56:41Z</dcterms:modified>
  <cp:revision>3</cp:revision>
  <dc:subject/>
  <dc:title>Luxembourg</dc:title>
</cp:coreProperties>
</file>